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7BB-30EA-4053-B3CD-701A4050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C24-B810-4E21-B789-36520C9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61A-44B2-4464-969F-FA29B232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9B7-AF4D-4DA3-9070-4B6BE294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805-2AA3-4EFB-901B-C80B89E7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0FA-5BB8-41A7-94E2-82805738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AB5-7D7E-44AB-BB94-864A63CB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AE9-1680-4961-A441-F0507B2F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BFB-ADDD-4F01-B2F6-92CD9FB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757-96A9-4071-8D92-645B481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04E-9A46-4071-9DD1-3A3E18C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345-531E-45C0-A573-344A67D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AE2E-24A8-418D-A946-109B4177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97180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backpack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95280" y="281952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pencil case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8954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n eraser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pencil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pener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6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7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1828800"/>
            <a:ext cx="6019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4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a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71600" y="1828800"/>
            <a:ext cx="6477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ov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00200" y="1828800"/>
            <a:ext cx="5715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at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wall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28800" y="27432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ac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2819520"/>
            <a:ext cx="5257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981080" y="2438280"/>
            <a:ext cx="5257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r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2895480"/>
            <a:ext cx="60195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2743200"/>
            <a:ext cx="5791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V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371600" y="251460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bracel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2895480"/>
            <a:ext cx="57913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sneak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2438280"/>
            <a:ext cx="6248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she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a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05120" y="27432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b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ga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répon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trouv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ça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j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'aim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 magasi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estion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épon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 trouv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ça..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o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'aime.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63120" y="6477120"/>
            <a:ext cx="228600" cy="152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27432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cuse 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k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 voudr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he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formal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'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lcom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523880" y="1676520"/>
            <a:ext cx="5943600" cy="38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u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tha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371600" y="2057400"/>
            <a:ext cx="6019920" cy="29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it i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'm sor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you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pap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don't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 pap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219320" y="213372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 y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for Frenc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s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l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523880" y="281952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es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19320" y="2286000"/>
            <a:ext cx="57909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scina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l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52480" y="2590920"/>
            <a:ext cx="5410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752480" y="2438280"/>
            <a:ext cx="5562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es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81080" y="23623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n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5120" y="243828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i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81080" y="243828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nes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s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28195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/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r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 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l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wi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le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alk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ho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sho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hors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ri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s verb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"ER"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ur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VO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b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 voudra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he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 &amp; 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/thes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/tu/i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/vous/il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'étudie/tu étudies/il étud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 étudions/ v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z/ils étudi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ruler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dsa'ljg'prg</cp:lastModifiedBy>
  <dcterms:modified xsi:type="dcterms:W3CDTF">2006-12-04T00:16:38Z</dcterms:modified>
  <cp:revision>30</cp:revision>
  <dc:subject/>
  <dc:title>No Slide Title</dc:title>
</cp:coreProperties>
</file>